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DE14-0EEF-4A14-8437-7F0B87A245F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6542-614D-4002-A4AB-27A5CC95F20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633B-6E17-4980-B586-5FFC705777E8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6AB4-D8F9-46A7-A1CA-AFC98FB3828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 w naborach wniosków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41440" y="1774800"/>
            <a:ext cx="7991280" cy="16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60320" y="3789360"/>
            <a:ext cx="7553520" cy="1797120"/>
          </a:xfrm>
          <a:prstGeom prst="rect">
            <a:avLst/>
          </a:prstGeom>
          <a:ln w="0">
            <a:noFill/>
          </a:ln>
        </p:spPr>
      </p:pic>
      <p:sp>
        <p:nvSpPr>
          <p:cNvPr id="207" name="Łącznik prostoliniowy 7"/>
          <p:cNvSpPr/>
          <p:nvPr/>
        </p:nvSpPr>
        <p:spPr>
          <a:xfrm>
            <a:off x="2340000" y="357336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oliniowy 7"/>
          <p:cNvSpPr/>
          <p:nvPr/>
        </p:nvSpPr>
        <p:spPr>
          <a:xfrm>
            <a:off x="2341440" y="371628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552680" y="1773360"/>
            <a:ext cx="5646600" cy="1774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62643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Łącznik prostoliniowy 7"/>
          <p:cNvSpPr/>
          <p:nvPr/>
        </p:nvSpPr>
        <p:spPr>
          <a:xfrm>
            <a:off x="2341440" y="299736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137440" cy="530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574560" y="3429000"/>
            <a:ext cx="8031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Łącznik prostoliniowy 7"/>
          <p:cNvSpPr/>
          <p:nvPr/>
        </p:nvSpPr>
        <p:spPr>
          <a:xfrm>
            <a:off x="2340000" y="443700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7960" y="4522680"/>
            <a:ext cx="7993080" cy="13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1440000" y="1670040"/>
            <a:ext cx="590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39640" y="1674720"/>
            <a:ext cx="583272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1"/>
          <p:cNvSpPr/>
          <p:nvPr/>
        </p:nvSpPr>
        <p:spPr>
          <a:xfrm>
            <a:off x="6372360" y="2314440"/>
            <a:ext cx="2160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 są już przekazywane do S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sty operacji wybranych i zgodnych z LSR -będą pobierane ze strony www L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klaracje bezstronności – co nie zwalnia z ich wypełni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9280" y="1267920"/>
            <a:ext cx="8191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2"/>
          <p:cNvSpPr/>
          <p:nvPr/>
        </p:nvSpPr>
        <p:spPr>
          <a:xfrm>
            <a:off x="604800" y="1844640"/>
            <a:ext cx="7705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godność z celami i wskaźnikami (karty oc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zaznaczenia celów ogólnych i/lub celów szczegółowych i/lub wskaźników produktu i/lub wskaźników rezultatu (omył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1"/>
          <p:cNvSpPr/>
          <p:nvPr/>
        </p:nvSpPr>
        <p:spPr>
          <a:xfrm>
            <a:off x="628560" y="3789360"/>
            <a:ext cx="770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chwa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atyczna śred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Łącznik prostoliniowy 2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3"/>
          <p:cNvSpPr/>
          <p:nvPr/>
        </p:nvSpPr>
        <p:spPr>
          <a:xfrm>
            <a:off x="684360" y="177336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y techniczne spowodowane wadliwością systemu lub błędnym wprowadzeniem do sy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4"/>
          <p:cNvSpPr/>
          <p:nvPr/>
        </p:nvSpPr>
        <p:spPr>
          <a:xfrm>
            <a:off x="873000" y="3716280"/>
            <a:ext cx="7417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formowanie Wnioskodawców o wyniku wy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 poszczególnych kryteriów, zgodn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LSR, ustalonej kwoty wspa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aściwe pouczenie o prote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Łącznik prostoliniowy 5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1"/>
          <p:cNvSpPr/>
          <p:nvPr/>
        </p:nvSpPr>
        <p:spPr>
          <a:xfrm>
            <a:off x="917640" y="1557360"/>
            <a:ext cx="7272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ierwsze strony wnios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% ustalony przez L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i lub oczywist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a zgodności z cel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5"/>
          <p:cNvSpPr/>
          <p:nvPr/>
        </p:nvSpPr>
        <p:spPr>
          <a:xfrm>
            <a:off x="900000" y="4149720"/>
            <a:ext cx="720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cedura oceny i wyboru a Regulamin R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upy interesu w Regulaminie 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lejność na liście rankingowej – ta sama liczba punk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Łącznik prostoliniowy 5"/>
          <p:cNvSpPr/>
          <p:nvPr/>
        </p:nvSpPr>
        <p:spPr>
          <a:xfrm>
            <a:off x="2411280" y="393372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3"/>
          <p:cNvSpPr/>
          <p:nvPr/>
        </p:nvSpPr>
        <p:spPr>
          <a:xfrm>
            <a:off x="539640" y="1773360"/>
            <a:ext cx="7993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ustalenia kwoty wspar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zaokrąglania kwot do pełnych zło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właściwego poziomu dofinans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ona kwota wsparcia według pozostałych środków w nabo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ożna „wciskać” operację w limit o ile wskazano zapisy w procedu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"/>
          <p:cNvSpPr/>
          <p:nvPr/>
        </p:nvSpPr>
        <p:spPr>
          <a:xfrm>
            <a:off x="561960" y="1844640"/>
            <a:ext cx="78976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zgodności z P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ytuły praw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umowy wstępne, przyrzeczenie zawarcie umowy, umowy zawarte nie przez wszystkich właścicieli, brak oświadczeń właścicieli/współwłaścicieli, okres nie zapewnia zapewnienia celu w okresie trwałoś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ość z ustawą o swobodzie działalności gospodarczej (podejmowanie i rozwij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świadczenie, zasoby, kwalifikacje, prowadzenie działal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1"/>
          <p:cNvSpPr/>
          <p:nvPr/>
        </p:nvSpPr>
        <p:spPr>
          <a:xfrm>
            <a:off x="684360" y="2274840"/>
            <a:ext cx="7704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zapisów rozporządzenia/u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kład własny jsfp to wkład krajowych środków publicz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wota kosztów kwalifikowalnych jsfp obciąża limit środ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łoszeni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rminy na dokonanie wyboru, na przekazanie do 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"/>
          <p:cNvSpPr/>
          <p:nvPr/>
        </p:nvSpPr>
        <p:spPr>
          <a:xfrm>
            <a:off x="3556800" y="765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erm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1"/>
          <p:cNvSpPr/>
          <p:nvPr/>
        </p:nvSpPr>
        <p:spPr>
          <a:xfrm>
            <a:off x="684360" y="2060640"/>
            <a:ext cx="770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Ustawy R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2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2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rozporządzenia 1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9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9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tyczna 6/4/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owiązuje od 1 grudnia 2017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lub wcześniej o ile LGD dostosowały swoje proced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542880" y="2924280"/>
            <a:ext cx="7840800" cy="124920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2"/>
          <p:cNvSpPr/>
          <p:nvPr/>
        </p:nvSpPr>
        <p:spPr>
          <a:xfrm>
            <a:off x="2069280" y="213372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klaracje bezstronności i pouf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6T06:40:31Z</dcterms:modified>
  <cp:revision>906</cp:revision>
  <dc:subject/>
  <dc:title>Slajd 1</dc:title>
</cp:coreProperties>
</file>